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8C4-16C4-449C-89BE-C337B79D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85D-84B8-408D-8752-A025AAA9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504-B60C-40CD-AF06-D2956079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BE9-928B-4721-B9A4-E5008007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0C4A-C52B-419F-9950-D501981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F21A-CD37-4EF6-B819-CEA0B5E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B5DC-FAE6-4A00-8E34-EE032A6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A05-4038-43BA-A329-1309FE25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834E-7743-4609-8F0B-3FBACC5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042A-FEEC-45D6-BF4B-644324E4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8186-D5C7-430B-8F64-7F089EC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1F1-7035-4915-A507-46AFC4E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EE89-CE5F-45E3-89A7-ED4BA28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1534-3A81-429A-AAEF-A07ABE8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98CF-2C96-4AEE-A34D-E22919DE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CB1E-BE87-4FD2-A7C2-18959AEF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974C-372E-4D8D-AD20-0F104A2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734-F119-4BC6-A459-B488867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FD6-A0FB-4FF6-8A7C-088D67D3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329-3AEC-4CE9-A2E8-55FAF422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C3F-D42C-443B-9644-5727DCE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BBD-E4D7-4BE3-8C4E-EB3EEEF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348-0DC8-4240-B600-6B3B8E6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C53-A250-44FB-ACD0-B116A353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F83-BC51-4A85-8BF9-0DA4C34B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lphabet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DA1-D153-4C57-A263-A348F56C2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abyBlessings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b6bcf"/>
                </a:solidFill>
                <a:latin typeface="Cambria Math"/>
                <a:ea typeface="Cambria Math"/>
              </a:rPr>
              <a:t>WELCOME PIER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2"/>
          <p:cNvGrpSpPr/>
          <p:nvPr/>
        </p:nvGrpSpPr>
        <p:grpSpPr>
          <a:xfrm>
            <a:off x="306360" y="5334120"/>
            <a:ext cx="8613720" cy="1373040"/>
            <a:chOff x="306360" y="5334120"/>
            <a:chExt cx="8613720" cy="1373040"/>
          </a:xfrm>
        </p:grpSpPr>
        <p:pic>
          <p:nvPicPr>
            <p:cNvPr id="86" name="Picture 5" descr="C:\Logon\IEtemp\Content.IE5\IZUMX9CW\MPj04385070000[1].jpg"/>
            <p:cNvPicPr/>
            <p:nvPr/>
          </p:nvPicPr>
          <p:blipFill>
            <a:blip r:embed="rId2"/>
            <a:stretch/>
          </p:blipFill>
          <p:spPr>
            <a:xfrm>
              <a:off x="609588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C:\Logon\IEtemp\Content.IE5\IZUMX9CW\MPj04385070000[1].jpg"/>
            <p:cNvPicPr/>
            <p:nvPr/>
          </p:nvPicPr>
          <p:blipFill>
            <a:blip r:embed="rId3"/>
            <a:stretch/>
          </p:blipFill>
          <p:spPr>
            <a:xfrm>
              <a:off x="175428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C:\Logon\IEtemp\Content.IE5\IZUMX9CW\MPj04385070000[1].jpg"/>
            <p:cNvPicPr/>
            <p:nvPr/>
          </p:nvPicPr>
          <p:blipFill>
            <a:blip r:embed="rId4"/>
            <a:stretch/>
          </p:blipFill>
          <p:spPr>
            <a:xfrm>
              <a:off x="30636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C:\Logon\IEtemp\Content.IE5\IZUMX9CW\MPj04385070000[1].jpg"/>
            <p:cNvPicPr/>
            <p:nvPr/>
          </p:nvPicPr>
          <p:blipFill>
            <a:blip r:embed="rId5"/>
            <a:stretch/>
          </p:blipFill>
          <p:spPr>
            <a:xfrm>
              <a:off x="464796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" descr="C:\Logon\IEtemp\Content.IE5\IZUMX9CW\MPj04385070000[1].jpg"/>
            <p:cNvPicPr/>
            <p:nvPr/>
          </p:nvPicPr>
          <p:blipFill>
            <a:blip r:embed="rId6"/>
            <a:stretch/>
          </p:blipFill>
          <p:spPr>
            <a:xfrm>
              <a:off x="320220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C:\Logon\IEtemp\Content.IE5\IZUMX9CW\MPj04385070000[1].jpg"/>
            <p:cNvPicPr/>
            <p:nvPr/>
          </p:nvPicPr>
          <p:blipFill>
            <a:blip r:embed="rId7"/>
            <a:stretch/>
          </p:blipFill>
          <p:spPr>
            <a:xfrm>
              <a:off x="7546320" y="5334120"/>
              <a:ext cx="1373760" cy="13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6:28:25Z</dcterms:created>
  <dc:creator> </dc:creator>
  <dc:description/>
  <dc:language>en-US</dc:language>
  <cp:lastModifiedBy>Lisa Thomas</cp:lastModifiedBy>
  <dcterms:modified xsi:type="dcterms:W3CDTF">2009-05-22T13:27:28Z</dcterms:modified>
  <cp:revision>3</cp:revision>
  <dc:subject/>
  <dc:title>Slide 1</dc:title>
</cp:coreProperties>
</file>